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png" ContentType="image/png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CAMERA.WAV" ContentType="audio/x-wav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2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ED6A-A051-4D61-8895-FE9353ABE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7410-228E-4215-9688-7FF2A2E17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44B7-AAC7-4C5A-AFE2-4D3C232A6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F070-6F37-4108-A1CF-46F5F516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5CD8-590E-446C-94D0-C6D599320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CA6D-1C69-4224-BC40-26E8DF86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7BE41-27D5-400D-8B6D-5D316008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E99-0720-418D-A248-6A5DBDC14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1B0EC-7944-4B65-847F-219BD6F3A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0A903-1D6E-4570-9C11-662CFFAE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A6F18-9DE2-4995-9C3F-C6C53D57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C3F4-4E80-40DE-AED5-68281C43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5817F-AE14-43DD-BE06-0D7D0C408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0727-396B-4020-BD43-B0DDAC53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3D97-F6F2-455A-88AA-54F2113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360C-B152-44E4-AAF2-ED777472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6A1ED-09C4-46B2-819D-9C2E40A88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6929-C49D-4C40-BA67-531AD23C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37C1-9FF2-4E58-BCB0-D621FCC99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D822-4E0B-4C7E-9EEC-DE38D5BF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388E-B721-4D87-B4A6-579C6A8FD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51E-204D-4161-B129-CFFF8E23F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55FA1-9D8F-41DE-8109-607D51D8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F9A6-17FC-4D50-A81D-D9D2D6BA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6433-E13A-489B-85EF-32502B84F9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paint"/>
          <p:cNvPicPr/>
          <p:nvPr/>
        </p:nvPicPr>
        <p:blipFill>
          <a:blip r:embed="rId3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49E-5589-4C05-8C9C-B521A29B4F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sszone.com/cz/get_home.htm?bid=5019&amp;img=re_french_2.gif&amp;url=/books/french_2/book_home.htm&amp;rt=T&amp;state=WI&amp;bn=Discovering+French,+Nouveau!+(Blanc+2)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7th Grade Fre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WordArt 10"/>
          <p:cNvSpPr txBox="1"/>
          <p:nvPr/>
        </p:nvSpPr>
        <p:spPr>
          <a:xfrm>
            <a:off x="3505320" y="2362320"/>
            <a:ext cx="5143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WordArt 12"/>
          <p:cNvSpPr txBox="1"/>
          <p:nvPr/>
        </p:nvSpPr>
        <p:spPr>
          <a:xfrm>
            <a:off x="685800" y="3505320"/>
            <a:ext cx="80773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295280" y="32767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dame Barthenhe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a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 &amp; Behavior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Picture 4" descr="belgique"/>
          <p:cNvPicPr/>
          <p:nvPr/>
        </p:nvPicPr>
        <p:blipFill>
          <a:blip r:embed="rId1"/>
          <a:stretch/>
        </p:blipFill>
        <p:spPr>
          <a:xfrm>
            <a:off x="5638680" y="457200"/>
            <a:ext cx="2210040" cy="13986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65530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 Belgiqu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l exam in Ju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% of semester gra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Picture 5" descr="Guyane"/>
          <p:cNvPicPr/>
          <p:nvPr/>
        </p:nvPicPr>
        <p:blipFill>
          <a:blip r:embed="rId1"/>
          <a:stretch/>
        </p:blipFill>
        <p:spPr>
          <a:xfrm>
            <a:off x="1905120" y="3276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xth to Sevent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 French every day of the week and counted as a regular acade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ssessment retak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er expec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Picture 5" descr="quebec"/>
          <p:cNvPicPr/>
          <p:nvPr/>
        </p:nvPicPr>
        <p:blipFill>
          <a:blip r:embed="rId1"/>
          <a:stretch/>
        </p:blipFill>
        <p:spPr>
          <a:xfrm>
            <a:off x="1752480" y="4114800"/>
            <a:ext cx="3143520" cy="20574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548640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ébe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29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9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vel opportun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l to France and Spain with the Middle School every other ye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e opportunities in Upper Sch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Maroc"/>
          <p:cNvPicPr/>
          <p:nvPr/>
        </p:nvPicPr>
        <p:blipFill>
          <a:blip r:embed="rId1"/>
          <a:stretch/>
        </p:blipFill>
        <p:spPr>
          <a:xfrm>
            <a:off x="4191120" y="3657600"/>
            <a:ext cx="2568600" cy="281952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144792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Maro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1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you can do…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your student to be an independent learn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your child to use the on-line resourc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k how class is go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 me with any concer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WordArt 4"/>
          <p:cNvSpPr txBox="1"/>
          <p:nvPr/>
        </p:nvSpPr>
        <p:spPr>
          <a:xfrm>
            <a:off x="2133720" y="1447920"/>
            <a:ext cx="4819680" cy="39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ci à tous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overing French Nouveau,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Bleu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&amp;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Blan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-Home Tutor CD-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Picture 5" descr="bleu"/>
          <p:cNvPicPr/>
          <p:nvPr/>
        </p:nvPicPr>
        <p:blipFill>
          <a:blip r:embed="rId1"/>
          <a:stretch/>
        </p:blipFill>
        <p:spPr>
          <a:xfrm>
            <a:off x="7848720" y="3581280"/>
            <a:ext cx="993600" cy="1371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http://www.classzone.com/cz/books/shared/images/books/selection/cvr_french_2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4343400"/>
            <a:ext cx="1179360" cy="13320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775400" cy="3581640"/>
          </a:xfrm>
          <a:prstGeom prst="rect">
            <a:avLst/>
          </a:prstGeom>
          <a:ln w="0">
            <a:noFill/>
          </a:ln>
        </p:spPr>
      </p:pic>
      <p:sp>
        <p:nvSpPr>
          <p:cNvPr id="94" name="TextBox 2"/>
          <p:cNvSpPr/>
          <p:nvPr/>
        </p:nvSpPr>
        <p:spPr>
          <a:xfrm>
            <a:off x="1219320" y="762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ttp://www.classzone.com/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181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 On-line Textbo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6840" y="1885680"/>
            <a:ext cx="8178840" cy="41720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2"/>
          <a:stretch/>
        </p:blipFill>
        <p:spPr>
          <a:xfrm>
            <a:off x="1295280" y="1752480"/>
            <a:ext cx="6324840" cy="47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3880" y="685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usmfrench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2"/>
          <p:cNvSpPr/>
          <p:nvPr/>
        </p:nvSpPr>
        <p:spPr>
          <a:xfrm>
            <a:off x="1219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wordreferen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ing oral fl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rning more complex grammar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oming an skilled world language lear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pontgard"/>
          <p:cNvPicPr/>
          <p:nvPr/>
        </p:nvPicPr>
        <p:blipFill>
          <a:blip r:embed="rId1"/>
          <a:stretch/>
        </p:blipFill>
        <p:spPr>
          <a:xfrm>
            <a:off x="609480" y="4430880"/>
            <a:ext cx="2590920" cy="1750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45720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Fran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ening, speaking, reading &amp;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ulture: videos, internet activities &amp; so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chnology based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martinique"/>
          <p:cNvPicPr/>
          <p:nvPr/>
        </p:nvPicPr>
        <p:blipFill>
          <a:blip r:embed="rId1"/>
          <a:stretch/>
        </p:blipFill>
        <p:spPr>
          <a:xfrm>
            <a:off x="609480" y="3830760"/>
            <a:ext cx="4343400" cy="27381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7"/>
          <p:cNvSpPr/>
          <p:nvPr/>
        </p:nvSpPr>
        <p:spPr>
          <a:xfrm>
            <a:off x="533412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Martiniq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16:22:10Z</dcterms:created>
  <dc:creator>Computer Services</dc:creator>
  <dc:description/>
  <dc:language>en-US</dc:language>
  <cp:lastModifiedBy>Admin</cp:lastModifiedBy>
  <cp:lastPrinted>1999-09-16T22:16:46Z</cp:lastPrinted>
  <dcterms:modified xsi:type="dcterms:W3CDTF">2009-09-02T18:33:26Z</dcterms:modified>
  <cp:revision>127</cp:revision>
  <dc:subject/>
  <dc:title>8th Grade French</dc:title>
</cp:coreProperties>
</file>